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6CF-850E-4BBB-AC8A-800254BE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722-B03C-41CD-8EA4-9964ED91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115-5318-4178-8202-2EAB2DD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E8C-517A-42B6-8A71-84FA613E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F06B-4756-49CD-826C-C0B5492A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B877-4C11-4E15-B182-667F7154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9253-6009-4528-AF3A-252ADE3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B563-521A-4481-9D73-037B9B3D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DE9-6C6B-401D-B433-25396405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D5A2-1C9C-44D2-8C5C-714DD172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7431-A91B-4187-85DE-6DA07470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8D7-F3C4-4363-9C34-74C9FE36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07C6-8D5B-45DD-BB9C-98140731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E5C-99A5-4B2E-BA87-0EDF5CF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BC8-2848-4CFA-9BFB-5AB4C263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8866-160D-4CEA-A9EF-DC88673E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5E23-B84E-491D-ACCD-D3AE1A2F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FF8-75B0-418F-8CF7-8ABE68B9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EDA9-5E7F-482A-AEE7-8E6D8DA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A80-C3FC-407A-B18E-1D9D2A60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E99-2B87-4E03-BABD-B0551F37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3DF-48BF-4CE1-88AA-D931232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C09-F98F-4A60-ADB8-536A7CCE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886-B3AD-4957-822D-EAA7884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36B4-E234-4C54-9532-2FB906354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845F-2072-4D1F-A0B6-160F3807E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Audio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9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IDI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IDI is a method and format for recording music from synthesizers and other electronic instruments. MIDI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reated with a computer that has a sequen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contain actual musical 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contain sound waves or use samp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small and load quickly on a Web 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Software for the PC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ost new PCs come with some software and hardware for recording and managing audio files.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dio editing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you to edit audio files and convert them from one format to an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I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 programs for recording, storing, replaying, and editing MIDI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you to create sheet music for many voices or instr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Hardware Devic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udio hardware devices for the PC may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 or sound c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phones for voice in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I input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/DVD bur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a multimedia production, sound and music are crucial in helping to establish moods and create environment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on PCs 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ny types of sounds are accessible with a PC. They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ken nar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soundtr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telephone convers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 alerts and prom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igital Audio Recording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igital recording devices capture sound by sampling the sound waves.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91120" y="2090880"/>
            <a:ext cx="48765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igital Audio Qualit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quality and size of digital audio depends o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pling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pl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umber of channe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ime span of the reco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streaming audi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reaming audio plays as it reaches your PC, making it unnecessary to wait until the entire file is downloaded to the computer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Audio File Forma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n audio file’s format determines what files a PC can open and play, and how much space the file occupies on a disk. File formats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P3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P3 is a standard format for music files sent over the Internet. MP3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ne of three MPEG standards for audio com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compress an audio file to about one-twelfth of the space it occupies on a CD with no significant loss of sound qu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AV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AV is a standard for sound files on Windows and Macintosh PCs. WAV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compress audio as much as MP3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generally used for sound effects and other small 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22:02:48Z</dcterms:created>
  <dc:creator>LJ</dc:creator>
  <dc:description/>
  <dc:language>en-US</dc:language>
  <cp:lastModifiedBy>GLENCOE</cp:lastModifiedBy>
  <dcterms:modified xsi:type="dcterms:W3CDTF">2003-01-04T01:08:36Z</dcterms:modified>
  <cp:revision>8</cp:revision>
  <dc:subject/>
  <dc:title>Chapter 9 Audio</dc:title>
</cp:coreProperties>
</file>